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896-1182-41BB-A128-74CF9055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839-B55C-418F-8EE8-D28D32EA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8D1-32A0-4913-B249-1C84B1F5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078-E2B3-4F78-924B-7541C31C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149-1220-4014-874E-5347E5A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FB22-E894-46E0-8D1E-E98057AE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5AB-A7A9-4EF1-AD9E-5BEEF1DA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0AC1-6188-4F41-92CC-29FDDCA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83AB-E6CE-4192-8A1B-FA27A637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70E0-43BB-4E55-BBB0-3FE96F3A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B6E-AC64-4391-838D-DC437A9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015C-C852-4250-A36F-5B9F612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B64-C11E-41EE-AF47-5C83E37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47F0-B597-424B-8D09-5B245D1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A701-41A1-4585-9D3B-4267B1B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CCD-0FBF-44FB-8438-6BD877A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6808-9FB4-4127-B1FC-AECA7F49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B3B-C9FE-4169-B557-4385FC1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C40-37BE-4F9E-97F7-E443E461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569-880A-44AB-81A5-800D29DD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57A-A889-433B-940F-A2FE2B39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911-66AA-45B1-AC4D-DD65AE8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EFB-7884-43A9-86F8-97BF7A7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D34-A8FB-4400-98D0-75803CE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A866-45D6-4D05-A701-155E5A263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0B4A-74D1-4F6E-835E-43500257E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391520" y="41241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hich stadium did Bobby Thomson’s famous “the shot heard round the world” homerun of the 1951 take place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86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"/>
          <p:cNvSpPr/>
          <p:nvPr/>
        </p:nvSpPr>
        <p:spPr>
          <a:xfrm>
            <a:off x="1522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03840" y="160020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Polo Grounds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305640" y="26668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Yankee Stadium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3963960" y="15969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nway Park Bo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3962160" y="266688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Ebbets Field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3276720" y="3657240"/>
            <a:ext cx="289584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lo Grounds, N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nway Park Bost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ankee Stadium, N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bbets Field, 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12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3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3401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5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53" dur="25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4" dur="250" autoRev="1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7391520" y="380988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band was led by the legendary Doc Neeson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0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306000" y="1596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Cheap T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305640" y="26668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The Monk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3963600" y="1596960"/>
            <a:ext cx="17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n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963600" y="26668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he Bea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TPChart"/>
          <p:cNvGraphicFramePr/>
          <p:nvPr/>
        </p:nvGraphicFramePr>
        <p:xfrm>
          <a:off x="1523880" y="3657600"/>
          <a:ext cx="457200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-2666880" y="3352320"/>
            <a:ext cx="236196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ap Trick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ngel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onke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6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301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7391520" y="349560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ustralian animal has handprints virtuall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stinguishable from humans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8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30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05640" y="15969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Platy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305640" y="26668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Kangar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3962880" y="15969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ng-tailed pos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3963600" y="26668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2819520" y="3733920"/>
            <a:ext cx="266724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ypu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ng-tailed possu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ngaro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o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20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1" dur="250" autoRev="1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601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1601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601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601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601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1601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601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601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601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1601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70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1" dur="25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Participant Scores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7080" y="1666800"/>
          <a:ext cx="8889840" cy="4572000"/>
        </p:xfrm>
        <a:graphic>
          <a:graphicData uri="http://schemas.openxmlformats.org/drawingml/2006/table">
            <a:tbl>
              <a:tblPr/>
              <a:tblGrid>
                <a:gridCol w="1473120"/>
                <a:gridCol w="5562720"/>
                <a:gridCol w="685800"/>
                <a:gridCol w="116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391520" y="318132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as the butler’s name on Magnum PI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5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0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305640" y="15969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Be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306000" y="26668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3963240" y="159696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3964680" y="26668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Je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2133720" y="4038120"/>
            <a:ext cx="175284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s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gi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thu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e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83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4" dur="250" autoRev="1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701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701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701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701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701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701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701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701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701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701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5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33" dur="25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4" dur="250" autoRev="1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7391520" y="28479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currency of Ireland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76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0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307080" y="15969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Drach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305640" y="26668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3962880" y="15969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3963600" y="26668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D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2133720" y="3733920"/>
            <a:ext cx="190512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chm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u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ur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n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46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7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101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101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101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101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101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101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7101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7101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101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7101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250" autoRev="1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96" dur="250" autoRev="1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7" dur="250" autoRev="1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7391520" y="254304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vie The Patriot dealt with which war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39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04920" y="159696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Gul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306000" y="26668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3964680" y="15969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er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3963240" y="266688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Revolutionary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TPChart"/>
          <p:cNvGraphicFramePr/>
          <p:nvPr/>
        </p:nvGraphicFramePr>
        <p:xfrm>
          <a:off x="1523880" y="358128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-2743200" y="3505320"/>
            <a:ext cx="24382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ulf Wa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er Wa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etna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50" autoRev="1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09" dur="250" autoRev="1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250" autoRev="1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80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80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80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59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0" dur="250" autoRev="1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7391520" y="22287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did Muhammad Ali fight in the famou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Thrilla in Manilla”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420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0"/>
          <p:cNvSpPr/>
          <p:nvPr/>
        </p:nvSpPr>
        <p:spPr>
          <a:xfrm>
            <a:off x="3838680" y="152388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5640" y="15969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George For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306360" y="26668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Ernie Sha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3964320" y="1596960"/>
            <a:ext cx="17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e Fraz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3962520" y="2666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Leon Sp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-2971800" y="3352320"/>
            <a:ext cx="266688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rge Forema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e Frazi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nie Shaver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on Spin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72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73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9701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9701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9701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701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701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9701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9701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9701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9701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9701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1" dur="25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22" dur="25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3" dur="250" autoRev="1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7391520" y="191448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nt Coffee was invented by…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442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0"/>
          <p:cNvSpPr/>
          <p:nvPr/>
        </p:nvSpPr>
        <p:spPr>
          <a:xfrm>
            <a:off x="3835440" y="250020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306360" y="15969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K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306360" y="26668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Am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3963960" y="159696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well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63960" y="26668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Ne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TPChart"/>
          <p:cNvGraphicFramePr/>
          <p:nvPr/>
        </p:nvGraphicFramePr>
        <p:xfrm>
          <a:off x="1523880" y="3657600"/>
          <a:ext cx="4572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-2514600" y="3352320"/>
            <a:ext cx="228600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raf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well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wa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s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5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35" dur="25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6" dur="250" autoRev="1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101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101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101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7101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7101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101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101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101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7101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101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85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6" dur="250" autoRev="1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Participant Scores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27080" y="1666800"/>
          <a:ext cx="8889840" cy="4572000"/>
        </p:xfrm>
        <a:graphic>
          <a:graphicData uri="http://schemas.openxmlformats.org/drawingml/2006/table">
            <a:tbl>
              <a:tblPr/>
              <a:tblGrid>
                <a:gridCol w="1473120"/>
                <a:gridCol w="5715000"/>
                <a:gridCol w="304920"/>
                <a:gridCol w="139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58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0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7391520" y="634356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songs from the Beatles’ Sgt. Peppers Lonely Hearts Club Band were released as singles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26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127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AutoShape 59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4"/>
          <p:cNvSpPr/>
          <p:nvPr/>
        </p:nvSpPr>
        <p:spPr>
          <a:xfrm>
            <a:off x="184320" y="2514600"/>
            <a:ext cx="3396960" cy="762120"/>
          </a:xfrm>
          <a:prstGeom prst="hexagon">
            <a:avLst>
              <a:gd name="adj" fmla="val 43334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2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273960" y="1614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3963600" y="16146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3963240" y="26668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w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305640" y="2666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TPChart"/>
          <p:cNvGraphicFramePr/>
          <p:nvPr/>
        </p:nvGraphicFramePr>
        <p:xfrm>
          <a:off x="1523880" y="3581280"/>
          <a:ext cx="4572000" cy="30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72000" cy="30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2971800" y="3920760"/>
            <a:ext cx="220968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n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ero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el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3401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401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401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401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401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401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401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TPChart"/>
          <p:cNvGraphicFramePr/>
          <p:nvPr/>
        </p:nvGraphicFramePr>
        <p:xfrm>
          <a:off x="1523880" y="3657600"/>
          <a:ext cx="457200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57600"/>
                    <a:ext cx="457200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 rot="16200000">
            <a:off x="5648400" y="3278160"/>
            <a:ext cx="5162400" cy="1663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772400" y="1905120"/>
            <a:ext cx="83196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How many different ways can you make change from a dollar?   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46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15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6"/>
          <p:cNvSpPr/>
          <p:nvPr/>
        </p:nvSpPr>
        <p:spPr>
          <a:xfrm>
            <a:off x="3838680" y="152388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8"/>
          <p:cNvSpPr/>
          <p:nvPr/>
        </p:nvSpPr>
        <p:spPr>
          <a:xfrm>
            <a:off x="306360" y="159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37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306720" y="2666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11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3964320" y="1596960"/>
            <a:ext cx="9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3963960" y="2666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1523880" y="3200040"/>
            <a:ext cx="114300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7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3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89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4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701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701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701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701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701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701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701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701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701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701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1" dur="250" autoRev="1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42" dur="250" autoRev="1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43" dur="250" autoRev="1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Fastest Responders (in seconds)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27080" y="1666800"/>
          <a:ext cx="8889840" cy="4572000"/>
        </p:xfrm>
        <a:graphic>
          <a:graphicData uri="http://schemas.openxmlformats.org/drawingml/2006/table">
            <a:tbl>
              <a:tblPr/>
              <a:tblGrid>
                <a:gridCol w="1270080"/>
                <a:gridCol w="3174840"/>
                <a:gridCol w="1270080"/>
                <a:gridCol w="317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HAE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9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5"/>
          <p:cNvSpPr/>
          <p:nvPr/>
        </p:nvSpPr>
        <p:spPr>
          <a:xfrm>
            <a:off x="1522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4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391520" y="602928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name of the black fla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t is flown on a pirate ship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15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15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3"/>
          <p:cNvSpPr/>
          <p:nvPr/>
        </p:nvSpPr>
        <p:spPr>
          <a:xfrm>
            <a:off x="306720" y="15969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Black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305640" y="260496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Jolly Ro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963240" y="15969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  Skull &amp; Cross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3962160" y="260496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Sign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TPChart"/>
          <p:cNvGraphicFramePr/>
          <p:nvPr/>
        </p:nvGraphicFramePr>
        <p:xfrm>
          <a:off x="1523880" y="3505320"/>
          <a:ext cx="457200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457200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895480" y="3768840"/>
            <a:ext cx="26668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ck Deat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kull &amp; Crossbon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lly Rog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 of the S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701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5" dur="250" autoRev="1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391520" y="5705640"/>
            <a:ext cx="1670040" cy="30456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Tony Soprano says he’s meeting someon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on the other side” he means…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17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17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1810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306000" y="15969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304560" y="26668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The Old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962880" y="159696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itness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3963600" y="266688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In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1523880" y="3632040"/>
          <a:ext cx="457200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632040"/>
                    <a:ext cx="45720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4952880" y="327636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Yor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itness Protection Progra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ld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60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7391520" y="539100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Miracle on Ice” USA Hockey Olympic victory on February 22, 1980 was against what nation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304560" y="159696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306360" y="26668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Czechoslova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3964680" y="15969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3964320" y="266688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02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4" name="TPChart"/>
          <p:cNvGraphicFramePr/>
          <p:nvPr/>
        </p:nvGraphicFramePr>
        <p:xfrm>
          <a:off x="1523880" y="3556080"/>
          <a:ext cx="457200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56080"/>
                    <a:ext cx="457200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2895480" y="3352320"/>
            <a:ext cx="259056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nlan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S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zechoslovaki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t Germ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201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391520" y="507672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as William Shakespeare’s nickname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18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1522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305640" y="159696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The B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305640" y="26668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Y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3961800" y="159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3963600" y="26668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he Be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TPChart"/>
          <p:cNvGraphicFramePr/>
          <p:nvPr/>
        </p:nvGraphicFramePr>
        <p:xfrm>
          <a:off x="1523880" y="3505320"/>
          <a:ext cx="45720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4572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200400" y="3733920"/>
            <a:ext cx="24382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ar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ng Wi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pp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e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6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Arial"/>
              </a:rPr>
              <a:t>Participant Scores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7080" y="1666800"/>
          <a:ext cx="8915400" cy="4572000"/>
        </p:xfrm>
        <a:graphic>
          <a:graphicData uri="http://schemas.openxmlformats.org/drawingml/2006/table">
            <a:tbl>
              <a:tblPr/>
              <a:tblGrid>
                <a:gridCol w="1472040"/>
                <a:gridCol w="5072400"/>
                <a:gridCol w="216000"/>
                <a:gridCol w="2154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ELIK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7391520" y="4762440"/>
            <a:ext cx="1670040" cy="30492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family lived at 1313 Mockingbird Lane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42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0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304560" y="15969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The Cunningh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306720" y="2666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The Clea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3963960" y="159696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dams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3963240" y="2666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The Mun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TPChart"/>
          <p:cNvGraphicFramePr/>
          <p:nvPr/>
        </p:nvGraphicFramePr>
        <p:xfrm>
          <a:off x="1523880" y="358128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819520" y="3657240"/>
            <a:ext cx="2590920" cy="2327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unningham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dams Famil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leaver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un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8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9" dur="250" autoRev="1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201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201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2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201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201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201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201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2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201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20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38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9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2"/>
          <p:cNvSpPr/>
          <p:nvPr/>
        </p:nvSpPr>
        <p:spPr>
          <a:xfrm>
            <a:off x="-114480" y="2886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181080" y="251460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838680" y="2514600"/>
            <a:ext cx="3400200" cy="762120"/>
          </a:xfrm>
          <a:prstGeom prst="hexagon">
            <a:avLst>
              <a:gd name="adj" fmla="val 43376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-114480" y="1905120"/>
            <a:ext cx="937296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-73080" y="-9360"/>
            <a:ext cx="9293400" cy="1371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50000">
                <a:srgbClr val="009900"/>
              </a:gs>
              <a:gs pos="100000">
                <a:srgbClr val="00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399440" y="1523880"/>
            <a:ext cx="1662120" cy="5181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391520" y="4438800"/>
            <a:ext cx="1670040" cy="304560"/>
          </a:xfrm>
          <a:prstGeom prst="rect">
            <a:avLst/>
          </a:prstGeom>
          <a:solidFill>
            <a:srgbClr val="f076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99440" y="1649520"/>
            <a:ext cx="166212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 1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 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 1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1,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hich prison was the Man in the Iron Mask held?</a:t>
            </a:r>
            <a:endParaRPr b="1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152280" y="1523880"/>
            <a:ext cx="3397320" cy="762120"/>
          </a:xfrm>
          <a:prstGeom prst="hexagon">
            <a:avLst>
              <a:gd name="adj" fmla="val 43339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Countdown"/>
          <p:cNvGrpSpPr/>
          <p:nvPr/>
        </p:nvGrpSpPr>
        <p:grpSpPr>
          <a:xfrm>
            <a:off x="2666880" y="4338720"/>
            <a:ext cx="2132640" cy="1527840"/>
            <a:chOff x="2666880" y="4338720"/>
            <a:chExt cx="2132640" cy="1527840"/>
          </a:xfrm>
        </p:grpSpPr>
        <p:sp>
          <p:nvSpPr>
            <p:cNvPr id="264" name="CDShape"/>
            <p:cNvSpPr/>
            <p:nvPr/>
          </p:nvSpPr>
          <p:spPr>
            <a:xfrm>
              <a:off x="2666880" y="4338720"/>
              <a:ext cx="2132640" cy="1527840"/>
            </a:xfrm>
            <a:prstGeom prst="bevel">
              <a:avLst>
                <a:gd name="adj" fmla="val 125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CDText"/>
            <p:cNvSpPr/>
            <p:nvPr/>
          </p:nvSpPr>
          <p:spPr>
            <a:xfrm>
              <a:off x="2666880" y="4338720"/>
              <a:ext cx="213264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19"/>
          <p:cNvSpPr/>
          <p:nvPr/>
        </p:nvSpPr>
        <p:spPr>
          <a:xfrm>
            <a:off x="38098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0000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52280" y="1523880"/>
            <a:ext cx="3400560" cy="762120"/>
          </a:xfrm>
          <a:prstGeom prst="hexagon">
            <a:avLst>
              <a:gd name="adj" fmla="val 43380"/>
              <a:gd name="vf" fmla="val 115470"/>
            </a:avLst>
          </a:prstGeom>
          <a:solidFill>
            <a:srgbClr val="f076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05280" y="159696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  The Bast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306720" y="2666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  Alcat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3961440" y="1596960"/>
            <a:ext cx="23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wer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962880" y="266688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  Nor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TPChart"/>
          <p:cNvGraphicFramePr/>
          <p:nvPr/>
        </p:nvGraphicFramePr>
        <p:xfrm>
          <a:off x="1523880" y="3505320"/>
          <a:ext cx="45720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4572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2971800" y="3733920"/>
            <a:ext cx="2666880" cy="232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astil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wer of Lond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catraz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wi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1" dur="25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2" dur="250" autoRev="1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901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901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901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901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901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901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901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901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901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901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5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99" dur="25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3:09:39Z</dcterms:created>
  <dc:creator>lfusselman</dc:creator>
  <dc:description/>
  <dc:language>en-US</dc:language>
  <cp:lastModifiedBy> </cp:lastModifiedBy>
  <dcterms:modified xsi:type="dcterms:W3CDTF">2009-02-02T18:45:59Z</dcterms:modified>
  <cp:revision>141</cp:revision>
  <dc:subject/>
  <dc:title>Slide 1</dc:title>
</cp:coreProperties>
</file>